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06ED-623E-4A08-934F-B1353C71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wsu-bio101.ning.com/profiles/blogs/the-molecules-within-you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.davidson.edu/Courses/Molbio/MolStudents/spring2010/Webb/a-amyla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l.clackamas.edu/ch106-07/sucros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ast.unco.edu/programs/fsi/summer/projects/2008/glucose_horseradish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elstar.ote.cmu.edu/biology/MembranePage/index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sbooks.net/appendi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e.wikipedia.org/wiki/Datei:Sn-Glycero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diana.edu/~oso/Fat/SolidNLiqui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bio.uoguelph.ca/educmat/phy456/456lec0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roteins-structure.com/2011/09/30/amino-acid-structu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File:RNA-comparedto-DNA_thymineAndUracilCorrecte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guide.co.uk/organicprops/aminoacids/dn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hemed.chem.purdue.edu/genchem/topicreview/bp/2organic/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amster.com/answers-sep-11/chemistry/molecule-molecule-functional-groups-pr_1468775.aspx?rec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reference.com/Mo-Nu/Nucleotides.html#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761-3E90-417F-9E44-2C618C07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ABB-A920-41EC-9A06-B2667B9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148-CFC7-4122-91AB-3731A7DE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356-7BBE-448E-9BD2-34EA36B4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3ED-979E-40E4-8EFE-9A95AFB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69C-2378-4DE7-AD1D-54AB926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F86-FF3E-47A4-96E7-071569A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923-5AB9-47FD-A743-8705C56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667-6489-402D-8DF1-EB89371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BD6-FBF5-4953-9CBB-872B154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955-9403-40E9-B0F4-A597E90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5DE-6BD4-4841-B556-0345AFB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920-E21C-41E8-A984-71EAFC7FD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, hydroxyl, amino, 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osidic bond/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11440" y="1981080"/>
            <a:ext cx="391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lysacchar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it continu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50960"/>
            <a:ext cx="77724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accharide (sucro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76240" y="198108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00560" y="1981080"/>
            <a:ext cx="234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eroid/stero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choleste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5080" y="1981080"/>
            <a:ext cx="633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atty acid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saturated &amp; unsatu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54240" y="1981080"/>
            <a:ext cx="483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lyc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9200" y="1981080"/>
            <a:ext cx="322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spholi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2639880"/>
            <a:ext cx="7772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14720"/>
            <a:ext cx="7772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asic unit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 between 2 amino acids in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 in total?  How many are “essential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 (8 are essent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functions of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uctural support, messengers, transport of materials, enzyme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primary” structure of a pro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s sequence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what level of protein organization are ß-pleated sheets and the alpha-hel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oly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yrimidine bases.  Describe their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ytosine, thymine,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le r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purine bases. Describe thei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enine, guanine  • doubl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mplementary b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d links consecutive nucleotides in a nucleic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hosphodiester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44840" y="1981080"/>
            <a:ext cx="40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NA single-stranded, has uracil (not thymine), has ribose (not deoxyribose), involved in protein synthesis but only the hereditary material of some 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NA double-stranded, has thymine, has deoxyribose, hereditary material, involved in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deoxyribo)nucleo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92400" y="1981080"/>
            <a:ext cx="475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for 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ests/reagents are used to test for starch, lipids (2 tests), monosaccharides, and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ugols (iodine), translucence test, Sudan IV, Benedict’s reagent, Biuret re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arboxyl, carbonyl, hydroxy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9400" y="1981080"/>
            <a:ext cx="34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arbon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46400" y="1981080"/>
            <a:ext cx="464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81240" y="1981080"/>
            <a:ext cx="47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2-02-18T22:34:42Z</dcterms:modified>
  <cp:revision>74</cp:revision>
  <dc:subject/>
  <dc:title>Carbohydrate Review</dc:title>
</cp:coreProperties>
</file>